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205-B84A-4DC3-A0EF-2E5ED390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4ED-FE91-4E9E-AA47-F61BDBC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A4-57C8-47F3-9EAA-D156FF9E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376-954C-4BE2-8896-5FE5C080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032B-0234-41DC-B4DD-C29735E9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438-0976-4150-B5F0-27C77716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957-14B6-4E2F-B360-B1DA5A5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45CC-E606-43BD-97B2-9CA96FA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E8D-79A2-4D91-9920-2955DE8E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46C4-9615-4E45-A7E8-A5C5C97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4732-2621-4910-ABE8-96FE6C45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EE1-FD86-4F33-90EB-EEBB2E6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1CA-6195-4D33-968B-9C7E991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F33-4F3A-45FE-BFB2-A3AE34B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1C68-DE16-46D4-90FF-FA97609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1798-9F59-43C4-96F5-7FE24E4A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B61F-41AC-4C47-99E8-F3E2A669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1C77-4D3F-414D-8655-DC942B1E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37DE-7057-4929-904A-ABFA850C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26FD-BAD9-4E76-A224-EE56A11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7099-6AF8-4CB0-9DAB-54B09D6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695D-82C4-4463-9576-5053805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A52-6773-45B2-9924-60922262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41A3-FC4E-4B87-8AD0-03CEAC2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9CBA-5D2E-40CC-BFA9-69AA98E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A471-0FA9-4867-B19F-83D3396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CBFC-7FE7-4AF2-909D-088A998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45FE-3448-496F-AC48-095B1FBD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BD5A-FFD7-4C1E-A2B9-B3938C71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72C6-669D-4858-AB46-D67F96B8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A3FE-91C6-481B-A786-DCDF1C07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D06ED-E517-48D9-9812-B95E5BC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470B-2735-44CC-AD59-292522C8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D0F-A687-4B68-B51F-32BC022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9CCB-38DC-4F81-B4A0-B45E360C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4F20-DC6C-40A8-A6A4-C2315D5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298B-483A-48E3-8EBD-028F9A6E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692A-0DDF-4128-B62B-EF3DFD83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AED1-CE32-4558-9A2F-3639879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773FF-4648-4CBE-A09E-E93DED18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1CD5-1811-48BA-93C0-76258015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FC60-F5F7-4AA4-9CAE-EAF6C29B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F8A6-678E-4937-B1A2-BEC200A9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687D-226F-4330-A1A9-DFAC4EF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B1C-F742-4D70-B2F2-18AB41D2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53A98-AC9A-4799-8839-747D4193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E474-2106-413F-B2C5-CAF01F6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72AF-867E-4292-8F12-3218DC9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FFAD-270C-41C8-BAC0-15D3A32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422E3-A3BE-4AA1-A374-45AC655A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78C9-D4F9-4BEB-9FE2-72C66FB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82C2E-2CEC-4F03-AC26-03182A8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1E651-7558-4829-8938-787153B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260B-1892-4282-8CEF-540054F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A061-9241-4DA9-9746-5F5225A2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D50-1819-46D4-AB44-793922A4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DB1B-8D9C-4D53-89E5-24F29600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46A6C-DB9B-4851-A843-AB35377D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9FBB-AA43-41C8-A0CE-5A7A5BB2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59DA-AA22-4618-BE9F-B07523A5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5C26-88D8-4615-9635-EA77AF0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07CD7-4E13-47C5-A47B-71590F5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5E52-526C-452E-B3A6-04E5C17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9586-5C7A-4270-B631-FFD60DB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CD202-F803-4FB7-84CA-03CF155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E288-4FD5-440F-8B7F-2226D54A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9E9-A63A-4595-88A1-5E29D013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25D92-6914-4F84-A5AD-2706905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C3E3-2C00-489E-B5D7-FF971D62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800B-7CA4-4BA0-8358-E0DDCD5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8BB-9EBC-4498-8073-5860C68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C06-07B1-4A14-BC9D-BB6D502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3DD-FD6D-4106-84EE-C0965B75FC1C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65E8-D2C6-4AF4-9CE9-6925DD3A5727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5650-E7F7-4BB5-A2F3-85396A7A7A7D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297F-6CA9-4228-B34C-09BF478E36DD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8FF-1A7E-426D-B7A3-D9F1C2898889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A74-222A-43AD-B713-4880D78CF374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Information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5235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kki made peanut butter cookies.  At 4:10 P.M. Nikki put the first dozen cookies into the oven.  She continued baking until she had baked 5 dozen cookies in 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n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560" y="11426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rst dozen cookies baked for 10 minutes, what time did Nikki take them out of the o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ue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0663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total number of cookies that Nikki bak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edne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" y="10663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had a party, and her friends ate 32 of the cookies.  How many cookies did she have lef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ur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put all the cookies in a cookie jar.  When she opened the jar again, there were 18 cookies.  How many cookies had been tak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ri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1426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put 5 cookies into each of 6 bags to take to her friends.  How many cookies did she have lef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21:58:47Z</dcterms:created>
  <dc:creator>127partidak</dc:creator>
  <dc:description/>
  <dc:language>en-US</dc:language>
  <cp:lastModifiedBy>127partidak</cp:lastModifiedBy>
  <dcterms:modified xsi:type="dcterms:W3CDTF">2012-01-06T22:09:23Z</dcterms:modified>
  <cp:revision>2</cp:revision>
  <dc:subject/>
  <dc:title>Information</dc:title>
</cp:coreProperties>
</file>